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925-0D24-4DC0-8F09-3FF82CD1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451-2E10-43F7-B9B7-C4FBC255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787-E59B-49D3-8F29-74CFD1E8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3B4-8EE9-452C-AEC1-02079CA2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62B-7ED7-4E7B-B341-358CA9F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5D4-B0A0-4187-A532-9713004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521-B51C-4163-AFB0-383C211E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5D9-4B97-46CE-BC42-F2FEA806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CD3-B1BA-4315-BCEC-0B60ADBE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4B8-22C9-4B01-AE0F-E3A81C2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C2A-97A0-424C-95FC-0DDC010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342-462A-4CF6-8B20-6019D12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B8C-40F9-4AAF-B72E-3AD55EB7E1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926-1EBE-47B6-B561-8BFB83E0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C7D-2C2C-480D-A95D-CAD1F88342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3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23E-D7A4-42D4-A7E1-78D4E8395CE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0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057-EE7E-45A2-B215-F95DB853313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6FA-E434-4831-BE91-5F9641366B6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F90-EA25-4AF2-A7FF-46E59B84E3F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D8E-6C81-43F2-A529-A06163EEB72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948-4C73-4B8F-ABAD-847128C6EA0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2B7-E51C-4F80-B46F-C436ECD8FE7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9C6-FC77-4F03-A9A2-E60AC331C44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ABA-64CD-409F-BF43-824EA0C858D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30F-883A-4959-8C35-32419892277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F6C-EA6E-49E3-92DE-B106952BF8A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A4D-C382-40B0-8FB2-B9359BDD730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36C-356E-4E0B-BDB5-6DAA8EE66BB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A39-EA73-4C54-A156-B210E5EFB4C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: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29B-8ECA-4B23-8623-A4CB5721CF4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628-3251-4671-B0D0-A12F1056DE3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5C5-F627-4102-9F42-DD0719BC3F8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518184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54B-E849-4A61-A5CC-B797B2CB097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: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611-3E82-4CA3-B5DA-D962C47A735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32E-A34F-404E-B4FF-D1182438DD3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E74-5E35-437E-BD2F-9DCFF10A360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E78-1CD0-43DD-BA31-1A8CEF27286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65C-787B-43AA-B07C-5F87A4E1698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:5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83D-FB09-42BD-8293-16CD620BA49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251-4F41-4D38-BBEF-E4D6645F34F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A10-F5E5-45F8-A7AE-6AD7AB3EFAB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146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2895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D7D-6E9B-4449-B013-755662199FE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7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DAF-CBF9-46FC-A156-7D26C610D17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19720" y="3971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4100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666880" y="29433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783-B8C2-45A8-8B35-FFCFCCBA0B3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07F-0F38-476B-AFF6-5F5B10A3905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C2D-10B2-45BD-9403-A0D8E9898AD5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936-D0A8-4E83-BADA-92B81C013031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D9C-4104-4460-BBC9-739AFC97A6AC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510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 Qua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8 Nick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21F-574F-4B60-B664-3B616EBA881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AD4-4250-4EDB-9F48-F3BF68F1BA0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523880"/>
            <a:ext cx="5105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2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 D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Nic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53F-4992-44A0-A58B-D832F5389992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469-8E60-4B83-9DE7-E400615AF46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D5F-4C22-4EF0-838F-569254FEBF5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92E-4E1E-468E-B6FD-939383F9088A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80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Jimmy buys 7 pencils from the school store. Santa gave Jimmy 12 more in his stocking for Christm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57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1- How many pencils does Jimmy hav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2- What is the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3- Write the number model for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B92-7CC7-4470-995B-2E77CA5C52D2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77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-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- penc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- 7+12=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911-B268-4504-BF4C-3151780AE3F7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748-3B6D-43A1-8BEC-443DF976A091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09B-2FF1-4AFF-A9DE-58A85D602825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7C9-4940-4EC3-B756-14DC2F450EA3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Which numbers don’t bel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15, 25, 35, 40, 55, 65, 105, 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8, 10, 12, 16, 17, 18, 20, 22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E80-EB80-45BB-8893-29E1693FDFAF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40, 1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16, 17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18C-1DA8-4C00-877D-DF1DEA2F3F4A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463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990720"/>
            <a:ext cx="129564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0200"/>
            <a:ext cx="12956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1320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132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2308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796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2308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37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133000">
            <a:off x="7428960" y="42289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75568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23880" y="43434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2196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990720"/>
            <a:ext cx="129528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600200"/>
            <a:ext cx="12952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457200"/>
            <a:ext cx="25909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948-A4BE-4E4D-86A3-52154F95DDAC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9954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-457200" y="499896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00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1905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891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6588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6076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6588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6076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65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133000">
            <a:off x="6972120" y="305568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9848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066680" y="317016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6476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F8-4E20-41B3-8B41-587D711EC3FB}" type="slidenum">
              <a:t>53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2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0D1-3F86-4433-9D1A-C3802F914BB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DE6-0891-4522-9DBE-B7FB18B4245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4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4CE-2CD7-47C6-ACDC-DFF062F5402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309-65D5-4808-B800-2F6AA69D54E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Property of</cp:lastModifiedBy>
  <dcterms:modified xsi:type="dcterms:W3CDTF">2009-01-04T20:53:10Z</dcterms:modified>
  <cp:revision>34</cp:revision>
  <dc:subject/>
  <dc:title>Blank Jeopardy</dc:title>
</cp:coreProperties>
</file>